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  <p:sldId id="275" r:id="rId44"/>
    <p:sldId id="276" r:id="rId45"/>
    <p:sldId id="277" r:id="rId46"/>
    <p:sldId id="278" r:id="rId47"/>
    <p:sldId id="279" r:id="rId48"/>
    <p:sldId id="28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slide" Target="slides/slide20.xml"/><Relationship Id="rId45" Type="http://schemas.openxmlformats.org/officeDocument/2006/relationships/slide" Target="slides/slide21.xml"/><Relationship Id="rId46" Type="http://schemas.openxmlformats.org/officeDocument/2006/relationships/slide" Target="slides/slide22.xml"/><Relationship Id="rId47" Type="http://schemas.openxmlformats.org/officeDocument/2006/relationships/slide" Target="slides/slide23.xml"/><Relationship Id="rId48" Type="http://schemas.openxmlformats.org/officeDocument/2006/relationships/slide" Target="slides/slide24.xml"/><Relationship Id="rId49" Type="http://schemas.openxmlformats.org/officeDocument/2006/relationships/slide" Target="slides/slide25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B7DC-AD57-4952-8315-B3DD6FF89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1BBC-C3F9-4E3A-B7F0-BA5B523F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507621-3A03-4574-BBAD-C7577DDB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BA2E03-5F9E-47A5-83F4-41AF26D4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D71436-3070-4049-9B7D-15CBA03C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0E3350-9E4F-42A3-8C80-40E6AD77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FA4985-2337-4D36-A877-4777877D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A1A76-5113-4F5B-962D-892D0966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973229-69B8-4408-BD29-8F59A5C3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963637-9533-4DC4-9DD1-DB57DCC98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7D0388-EF28-42A1-9AB4-F3C72D53B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56813F-B07E-491B-AFB5-FA722300A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760A-C489-4577-A3F1-2FF95C4AB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B8C233-D769-489F-9E3F-C37A1DE1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34C730-BEAF-4C92-840C-F1C08262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47510F-7A9B-4B25-9526-E030C5F0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747C91-6AC2-4251-B584-334DE0FF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A3D3F0-EACA-4D93-BF8C-750C4B85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4C7CEB-C839-4C33-B97B-2D2C18C4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5F1DAC-7B8D-45C5-B634-EDD8E496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ACA14B-C3F4-4E0E-8E65-C783ECBC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70EDD7-7B8D-4C40-9AD7-89DFFC65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547A35-B560-4637-ACF8-E01927EFA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805A-E148-42BB-962E-389FA917C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37E8B6-B27F-431D-9D62-7A74F124A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B4DD1C-D28C-45EB-9A9F-76AFB2CFB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678F5-F2D7-44C0-88B2-B47B31B0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BF9B7-F95C-448E-B64C-354914EE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00A1E-1616-45B7-B6B0-9056DAA0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385427-3A40-4764-BE5A-F1FFABE0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E45BF-64E8-4EFF-ADCC-E0070939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811D9-19A7-4D3D-9D3F-BCFB52FE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94006-3426-428D-92A5-82371C51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A028E-388A-455D-9991-BC99E275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A151-AC66-4BBD-8006-C894C9744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BA279-B1EC-46BB-AB62-8A71595E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7823B1-2A14-42E5-8B50-DE47A41CB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867EF-B163-4B70-9AD2-12DF5DEA8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067CF0-7EDC-44FD-8BBC-BB7DC1D92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90DBA5-BDB7-4EC2-97F7-5CAD2AE1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947EB9-2C76-4AA9-A5F0-C8668E6F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660173-1B03-4BF1-862A-2AD35F92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7ECD2F-0583-4323-AA8C-DAA65817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FF6F5E-A7FD-40E2-A494-D5AB646C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7DEE36-9398-4250-90F7-410832F1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0D71B-2121-4BA2-8F70-76641286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8AB695-3AA3-4675-9E8A-C9B9E69A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6A3BE5-AD1B-4FD3-A256-5029E264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0284AB-1D87-4444-AD66-52BE2761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434FBE-FDFF-40BB-AFAC-CF12EEB9B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FB893D-421C-440B-9929-0DD68FAB8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A5D3DD-316E-45E8-B569-1A9F6F127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403748-4578-4F8D-AA4F-B44019EB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E94434-817D-4F99-9F11-EFABE567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6ECA60-5A42-42DE-AA8E-7FE33F7C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554982-42BC-475A-AA59-F3172773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8BC91-AC3B-492A-8BA8-E5DC4112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4FF834-60CA-4D6E-965E-0F780960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8CA6F9-3170-4785-91CF-E6382530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C0A42A-8A2C-466F-90A7-4B69863F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0FF2DC-1C37-4C04-9A67-9286412F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0EB023-6765-44D6-A58B-442F88FA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C53B5C-2E7C-491F-AEC7-D90592453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8344D7-1B51-4CAC-A3E3-CB70E060B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6AA0A4-07D7-4B87-9FAE-B41F3F455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C2DB0B-8C7D-41FD-AB68-4D9F38AA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298AF3-4EFC-4924-84F1-2942E46C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EDCE-79FE-470E-9C16-5BAFF1CA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19BE6F-28A3-482B-816C-4EF76F4E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A867E4-44DE-4C43-AC54-5A92846C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BBC658-7693-4A41-97AB-E5EDED35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715728-56E6-4A0E-BF08-DDE809FF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9F6575-731A-4A09-8F61-E2AC21DC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9C5EB6-131C-43EA-8C4A-84E9FF9C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FC4986-8C8B-4F19-B97D-E2031046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15AC0C-C147-4CFD-AEEA-FFA9B759B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027B6E-7985-4564-8036-9CBB6373B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B8CB5F-979A-4AF7-AE5F-EC995164C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D14D-EC6D-4C83-AE69-1DF168FB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4B9382-36FC-4F98-91A6-D566A889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2F78C9-5E1C-4EFF-A8A3-64369799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AE1D85-711B-46DB-A3FE-E405A151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5F0331-7EFC-4383-8695-20E2A21D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AFC839-38CD-4BE0-A2CB-CD7A10ED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0B7481-6EE8-47E3-93AB-7CD3A6B1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81165A-D07A-4321-A3D7-253BC8B8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60DC85-28CB-41E3-8F4D-30D34029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F9DFFB-ED6C-4CD0-B866-FB4DE9D2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A9B077-34E3-4187-982C-137102FF5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01BA-E194-4ECB-8633-3B6AF626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4CF5D2-47B1-4413-BC03-42FA8ED16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A9DB7F-1580-4AF6-95A4-BD6440526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4F5C9E-09BA-4170-9EA5-B24E3CCB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EE02AB-AE83-41CB-B1B6-4C0AAAE1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FFD383-8905-42B5-9A0E-0703F7FA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B0CEB5-534D-4ACB-BDA6-2DE02940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EDAA3F-5207-4B77-BD36-EA6DE85B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4DE4A4-6513-4D02-B2CD-58B9A862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B67CF7-F189-4A23-9AB2-C0B89BEA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34AB56-0AA6-4A3B-9C8F-C502ECC0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95562-11B8-4918-AC56-B1ACB8E4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5285D6-210F-4C44-84FF-C87DF666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3BC918-64E2-4E3D-B4FF-71867C6E6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93583D-BCA9-49FF-9DEC-AB40420F2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68E91D-B5CB-4F6E-9F10-6D6C27AC9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532073-8EE2-4EF7-8D1C-8F3ADD9E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B9251F-E7C9-4D96-B552-A66916F0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E518D5-3C88-4148-ABE3-67D305BC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A504EF-B215-4F83-9D17-78331391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5D26C9-174E-428D-8271-E24B0896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2D105B-24B8-43A0-8DDF-6CFE0790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89B7-C0B1-497C-B7EB-005B004B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5616-3832-4202-9473-87902E98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0BE8C2-1995-4B08-BF9A-E4768315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CF5274-9846-495C-84A1-ACEEA559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39220A-0B32-4D05-8F5B-AE9FD4C3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DF919F-09DA-40A0-9203-A028FE1F7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64B4B4-EC5D-4A00-B9AE-39703C474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6F6805-09AF-457F-B5F5-96EA0376F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D97163-9839-44A8-A9E6-40A32FB1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E9FBCE-1063-4DD0-ABF2-EB717C8B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B441C1-391C-4480-8893-D0980929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737248-CA1E-45D6-8851-577F8421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85BC3-FC34-4921-859E-EDE46061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E271F6-1947-4330-8780-AF674C81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0A2DC6-CFC7-4898-974A-1640BD87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1ED498-7FE6-4611-846E-835AD983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F32206-69B3-41A1-919B-70361A29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146255-0FC1-4841-A06F-AF0ED02B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7AEC74-6599-44F2-AA01-D7E0E1D8B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DAEAA3-88E7-4E02-A98F-A26FF4717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CFF28E-9879-4EC3-8996-848128510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CABCFB-7120-448A-8287-0B7D0B29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00EF28-D81C-42EF-AC21-B2A41AAD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FB68-D51A-4B7E-AC01-5CD4B3C9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CC3911-87F0-467B-AFFD-C0BC79DC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984B8A-F60C-4870-B269-A0FA5C4C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5E6948-B2A2-4D8D-92BD-AB380049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68EB27-1859-4A9E-91D0-3004F180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1F6466-14F3-4018-AC1C-BF72461E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33D727-62C4-4691-8023-2288FC42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3049BE-412F-4E54-8377-9F687958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4F4598-AC50-40FB-811C-2E28A4413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F6968B-5F7E-49F3-9ED1-551009742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CCE42A-97B7-464E-9AE0-E1349AF85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8FDE3-A1BB-4AA7-8836-44BD48E13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457B91-C9C8-4F5C-AAC5-040AA5C8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63B367-B9C7-459B-ADC4-CDD26FFC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16D083-2B83-48A3-B64A-74D448D6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C07FD2-64C6-454C-81CA-B9E87A0B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F6E94A-CD95-47F7-B82F-FF4EC49E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EB1A2C-CDB8-4230-9782-7C442D2F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BC7F11-093E-4B5A-A948-2CA69529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9843A6-6A4A-4BCF-BF46-79A5198C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0BF7F1-A601-4612-84A5-AC8206AB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DF3D26-0D68-4240-BA39-C5FB6878E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4B25-C295-4179-A7E0-C7C86733B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A5C97F-E97E-42EE-ACB5-6E4BFBC55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9ED137-CA8C-4746-815E-06B3DE1BB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D0F1CF-D377-49C1-B6D4-7BA07542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966C46-6150-4A89-87B6-92142D98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6E8672-9F73-47C1-B453-69B1FBFC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1CD8A6-CE2A-41BA-A000-9FC6C68C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EB186B-CE5D-45CE-A907-8A8DA10A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3C5C6A-2686-4A38-B23C-3E723A6A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53B926-0706-49FC-AECF-72536432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AAE72F-BC0E-40BD-A151-C17E6DA5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507D5-ACBE-4A47-AFA7-91894B80E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E0E427-54A8-4401-BB30-05BC5283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94CB45-DB97-4406-BDA1-E64EEA4BD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F459DB-9B90-4192-A80C-841E14C03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92AC35-1108-4E8E-A954-749F8FFD1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7EC04C-9292-4803-97BF-846C339C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61617D-4DC9-4A02-8F93-04A29733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EF1AF9-5C9D-4210-A393-4B927E86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44A6FC-424F-4376-BE08-C628E19D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4DE78E-C5FF-439A-BD0F-5CC8E1F6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E13254-68F1-424B-AA51-D35BDEA6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3A1C5-A657-4872-983A-D27EA1C0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0C3EDD-1522-47B9-8787-9A88B669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430EFE-1EEA-4F07-9AA3-A614A8A3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F5BDA6-889D-4031-A4A0-8E90DDB5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351887-B32D-4156-97B3-900CF2027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19E140-D3A9-4715-82B6-1FC78E19D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3EE94E-0B36-4083-BD23-92EF83439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ADD576-BD0D-4FDF-AE17-3B3A160A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E3C62D-DE37-49A3-8726-04D62937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3105E2-FE32-4BED-8552-4091340F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0C7CF6-E907-43DF-BF04-2388CFDE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090BE-D46F-4B27-BB8C-4FF0E69C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5ACFE1-E955-4DC2-ABB4-C9B39757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2DA2C4-D8FB-4D4E-9634-B9CCD887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2BA644-25D1-45D6-BE95-9023D7AE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8E292B-5CD4-4E30-8FB8-D7DC4C1A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349DBD-1CC3-4223-B6DD-D5CB62AD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DB41FA-70F8-4852-9635-18CC96188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F673AE-6D65-424E-BEF0-70AC1CAEA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81C80-9AD7-4460-BB7E-1F4F03FE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D44C4-6518-430E-B667-33408D82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52A9-DA46-4AC1-A961-E9AFA3D2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19FDC-0D04-4F5E-B951-E64E4CE5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EC0FC-6CBB-4451-9B6B-ECD3269F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E6F4B-A468-4197-9090-821C08CF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BE06A-A553-4F49-900B-CE938542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EBB7D-5C88-46AC-B7F5-3E501F1E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060D7-AFDB-4EFC-B3B0-5F61103ED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FAD5D-E990-481A-AF19-94542B616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E7F86-2F3B-4F8C-AB67-1E8ABACDA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AB894-F4BF-4D8F-B1A2-75057820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12A24-05BF-413A-B387-4A4B2827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1671-6153-447E-96F0-33547EA4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D83D0-DD23-48DF-8EB7-85502A07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3769D-13B5-4686-9164-668390E3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10608-C219-4878-9D5E-B8AACFB8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87513-F250-4ACF-9D77-14450A6C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C61CD-DF62-4A90-A051-CBD2E65C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BF30B-D9F8-4391-81D3-5F5BF437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C2FD0-ADE7-4CBF-A43E-99AA808E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E0103-0775-45A8-B57C-3FCB7D7F8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A8FCA-5499-4EA7-87E5-99A4901F1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3490B-6EB7-401D-8607-7F1AF7FEC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5C0A-4BCB-4ACB-8EE1-6EED5236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B19A9-E1A6-4178-AE2C-043AD089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AB2C4-4CB8-4F05-A48A-53082F05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D3DE8-494E-4BC6-95F8-789F4005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05C00-FFE3-4BEB-BBFC-887AF534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28CB4-C3CB-4B3D-AE3B-2BCD7CD1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46F6E-4706-4200-978F-788F59AB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B6064-3C8D-4D70-A5A7-BAA465E0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6F820-075D-4674-B7EA-7847DB90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B97C6-1221-4299-B33C-8497CAC4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8B331-FBBE-4263-ABFC-FE0A0D9AA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557D-A674-419F-A76D-4BB67A67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4A68B-9FD8-4D77-92C1-8799EDCEA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5409C-27F3-40C8-BB8C-31EAF5A9F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21542-5899-4C3A-B16C-4CAC056A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79320-2E23-420F-B298-93128E02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B4395-47D7-4075-910C-AA6F8659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3058A-3B77-496B-BBB0-2A038AB5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4A511-B1BD-4E78-A56C-F0F8682E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3B717-17F7-49B5-98B0-1F2EB2AB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C7102-7371-4910-BE41-6223AC68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84C90-EA27-4CEF-89B8-2C9B6BC4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36D8-2924-4BE0-A4D8-86BE1488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C74E5-BC64-4B0A-9A42-AF51E8EE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0C142-FB7F-4684-85F9-1AB0A7125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4E3A5-1B29-418B-A6A8-5A8AFD710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C07DE-7CD0-4C29-9138-8B50B2461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62777-F2C0-450D-936F-B1F83420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96275-AD29-4825-8911-81E46F00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6741B-2877-41F0-9FB6-4A30F142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04241-1E39-4BDA-BAAE-2F012E88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87164-CF11-400B-A895-3E5DE5E1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1F470-F729-48E7-BBCB-94191F3D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B3E6-B7E8-4C04-AC60-BE067C2C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9D5FB-B3CB-41F1-8937-7C014F44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E0A67-91AE-41B2-9CF1-3359AC0E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A3028-ABA8-4418-A638-ECF7F1F6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DC6F9-28E7-4E00-A071-236AE3698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E3EA2-72C1-4A41-BD3D-E159C8F5D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06BC2-2E13-4192-80BB-0017EC70C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42BFF-1102-4B09-9C4F-A3A9C35C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9A4A0-11F8-493A-AB4E-7E772046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C80F3-A47E-48C4-9264-3FC79ABE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991B8-F8A4-48FA-AC5C-25EE7F04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38B2-AB6D-4FC0-B610-B92DA4A7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1B3FC-7677-4DCF-A0DF-97003193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974FE-5D4B-431B-A0CA-47E5C7E0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50303-776F-4C92-BFDC-BDC17937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8C9EE-5D61-4014-BD07-1E55DD92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BB348-5C09-4DA3-9313-6A503810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647C4-D88A-45C4-8596-6D7F8AB76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32227-5DB7-4EA0-B383-52E542B0A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06FFEF-F092-489F-AB7E-BDD04DF1D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8C2ED6-5B84-4C47-9F9E-638A4C85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F9C499-7F14-4661-8E83-8786BCCE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20F6-EB32-4090-A8BB-2CFB464427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6742-ED01-42C9-9DD6-CB3762F62D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3EC6-AD00-4310-8BB6-500DEBD602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CBEB-63FF-4F58-B512-F28CB9AF17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3BF8-6FB2-48DC-B358-2237E12847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6DAE-CEF8-4636-A680-78CFCE9906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3108-4B8C-40DD-8142-25FE85FF19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8AD7-8623-49CD-9737-9E4DFF68D1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2332-CF55-49E6-BB92-7BF7CCD5D6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C609-F8BB-410F-982B-5523F0CB84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F9F5-AFB0-4865-B4B7-E8472971BF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CEDB-AB5E-4AA0-A6DE-C2FF2CE79A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7424-33DC-4E7A-B706-B93DFF1EB1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D45F-2CC7-4E54-B366-166FB2B71E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6C67-215A-45F6-AF50-193493388B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0A34-68FD-4A12-B074-61CCC04754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546A-4733-424C-91D1-16EB2AB975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B531-05D4-4946-8A9D-0D8B83F81B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639C-5C7A-413F-A894-DEAE844CFB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967D-15E2-4EF4-8862-ABBB1784A3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6CE4-663A-414B-AA59-F1E0EA2C72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F7C7-4485-41A3-9550-66C484D9103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49A6-8E9C-4987-AF04-D579FD2CEA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A7F7-F2D1-4C93-9596-6E832D70C9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5E44-E541-4A61-823A-BA2ED789A3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D0D2-A479-4168-883D-7D9D2F2E3B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78FD-9827-40C6-9D57-8B7638311C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0DF7-2ADC-4D0D-963B-DD1D7DB47C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A5E2-1B6A-4868-996B-9157DA91CA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7D2B-1444-4B10-80BA-B4D163777F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1823-0A66-4A83-A1F1-75FC1663C0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DC41-EEC4-4A6D-97EC-6AB3F340BA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BEBA-3002-4999-A948-8C85006676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BF00-6E9A-4A7C-81BE-37EBB360B94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2D6D-3593-46DD-9F2B-BB8B07817A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41DD-9BF1-4B01-BA24-4B7293D62D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E68E-8306-4111-B703-D4B57B4BA0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C764-60DC-4744-A977-EBB09F38EF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CB15-11FD-4ED3-89AF-1391FB74F8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2209-124C-42B0-BCAD-423E224D24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3FD4-9FCE-4D4B-9E95-916DFF7FA4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D159-38F2-4C5D-B2EC-E2702F099E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128520" y="3006720"/>
            <a:ext cx="8885160" cy="2438280"/>
          </a:xfrm>
          <a:prstGeom prst="rect">
            <a:avLst/>
          </a:prstGeom>
          <a:ln w="0">
            <a:noFill/>
          </a:ln>
        </p:spPr>
      </p:pic>
      <p:pic>
        <p:nvPicPr>
          <p:cNvPr id="1107" name="图片 5122" descr=""/>
          <p:cNvPicPr/>
          <p:nvPr/>
        </p:nvPicPr>
        <p:blipFill>
          <a:blip r:embed="rId2"/>
          <a:stretch/>
        </p:blipFill>
        <p:spPr>
          <a:xfrm>
            <a:off x="3780000" y="1052640"/>
            <a:ext cx="176184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图片 1" descr=""/>
          <p:cNvPicPr/>
          <p:nvPr/>
        </p:nvPicPr>
        <p:blipFill>
          <a:blip r:embed="rId1"/>
          <a:stretch/>
        </p:blipFill>
        <p:spPr>
          <a:xfrm>
            <a:off x="123840" y="781200"/>
            <a:ext cx="889632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4" name="图片 1" descr=""/>
          <p:cNvPicPr/>
          <p:nvPr/>
        </p:nvPicPr>
        <p:blipFill>
          <a:blip r:embed="rId1"/>
          <a:stretch/>
        </p:blipFill>
        <p:spPr>
          <a:xfrm>
            <a:off x="204840" y="1362240"/>
            <a:ext cx="8732880" cy="413352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1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1" descr=""/>
          <p:cNvPicPr/>
          <p:nvPr/>
        </p:nvPicPr>
        <p:blipFill>
          <a:blip r:embed="rId3"/>
          <a:stretch/>
        </p:blipFill>
        <p:spPr>
          <a:xfrm>
            <a:off x="468360" y="178452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1" descr=""/>
          <p:cNvPicPr/>
          <p:nvPr/>
        </p:nvPicPr>
        <p:blipFill>
          <a:blip r:embed="rId4"/>
          <a:stretch/>
        </p:blipFill>
        <p:spPr>
          <a:xfrm>
            <a:off x="539640" y="213372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58" name="Picture 1" descr=""/>
          <p:cNvPicPr/>
          <p:nvPr/>
        </p:nvPicPr>
        <p:blipFill>
          <a:blip r:embed="rId5"/>
          <a:stretch/>
        </p:blipFill>
        <p:spPr>
          <a:xfrm>
            <a:off x="539640" y="263700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59" name="Picture 1" descr=""/>
          <p:cNvPicPr/>
          <p:nvPr/>
        </p:nvPicPr>
        <p:blipFill>
          <a:blip r:embed="rId6"/>
          <a:stretch/>
        </p:blipFill>
        <p:spPr>
          <a:xfrm>
            <a:off x="539640" y="299556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60" name="Picture 1" descr=""/>
          <p:cNvPicPr/>
          <p:nvPr/>
        </p:nvPicPr>
        <p:blipFill>
          <a:blip r:embed="rId7"/>
          <a:stretch/>
        </p:blipFill>
        <p:spPr>
          <a:xfrm>
            <a:off x="539640" y="342900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61" name="Picture 1" descr=""/>
          <p:cNvPicPr/>
          <p:nvPr/>
        </p:nvPicPr>
        <p:blipFill>
          <a:blip r:embed="rId8"/>
          <a:stretch/>
        </p:blipFill>
        <p:spPr>
          <a:xfrm>
            <a:off x="482760" y="38768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62" name="Picture 1" descr=""/>
          <p:cNvPicPr/>
          <p:nvPr/>
        </p:nvPicPr>
        <p:blipFill>
          <a:blip r:embed="rId9"/>
          <a:stretch/>
        </p:blipFill>
        <p:spPr>
          <a:xfrm>
            <a:off x="482760" y="42354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63" name="Picture 1" descr=""/>
          <p:cNvPicPr/>
          <p:nvPr/>
        </p:nvPicPr>
        <p:blipFill>
          <a:blip r:embed="rId10"/>
          <a:stretch/>
        </p:blipFill>
        <p:spPr>
          <a:xfrm>
            <a:off x="482760" y="46688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64" name="Picture 1" descr=""/>
          <p:cNvPicPr/>
          <p:nvPr/>
        </p:nvPicPr>
        <p:blipFill>
          <a:blip r:embed="rId11"/>
          <a:stretch/>
        </p:blipFill>
        <p:spPr>
          <a:xfrm>
            <a:off x="468360" y="508464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5" name="图片 1" descr=""/>
          <p:cNvPicPr/>
          <p:nvPr/>
        </p:nvPicPr>
        <p:blipFill>
          <a:blip r:embed="rId1"/>
          <a:stretch/>
        </p:blipFill>
        <p:spPr>
          <a:xfrm>
            <a:off x="100080" y="695160"/>
            <a:ext cx="894240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图片 1" descr=""/>
          <p:cNvPicPr/>
          <p:nvPr/>
        </p:nvPicPr>
        <p:blipFill>
          <a:blip r:embed="rId1"/>
          <a:stretch/>
        </p:blipFill>
        <p:spPr>
          <a:xfrm>
            <a:off x="128520" y="1432080"/>
            <a:ext cx="8885160" cy="34290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1" descr=""/>
          <p:cNvPicPr/>
          <p:nvPr/>
        </p:nvPicPr>
        <p:blipFill>
          <a:blip r:embed="rId2"/>
          <a:stretch/>
        </p:blipFill>
        <p:spPr>
          <a:xfrm>
            <a:off x="468360" y="32846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68" name="Picture 1" descr=""/>
          <p:cNvPicPr/>
          <p:nvPr/>
        </p:nvPicPr>
        <p:blipFill>
          <a:blip r:embed="rId3"/>
          <a:stretch/>
        </p:blipFill>
        <p:spPr>
          <a:xfrm>
            <a:off x="468360" y="414972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9" name="图片 1" descr=""/>
          <p:cNvPicPr/>
          <p:nvPr/>
        </p:nvPicPr>
        <p:blipFill>
          <a:blip r:embed="rId1"/>
          <a:stretch/>
        </p:blipFill>
        <p:spPr>
          <a:xfrm>
            <a:off x="343080" y="1785960"/>
            <a:ext cx="8458200" cy="328608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1" descr=""/>
          <p:cNvPicPr/>
          <p:nvPr/>
        </p:nvPicPr>
        <p:blipFill>
          <a:blip r:embed="rId2"/>
          <a:stretch/>
        </p:blipFill>
        <p:spPr>
          <a:xfrm>
            <a:off x="684360" y="177336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1" descr=""/>
          <p:cNvPicPr/>
          <p:nvPr/>
        </p:nvPicPr>
        <p:blipFill>
          <a:blip r:embed="rId3"/>
          <a:stretch/>
        </p:blipFill>
        <p:spPr>
          <a:xfrm>
            <a:off x="684360" y="30686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1" descr=""/>
          <p:cNvPicPr/>
          <p:nvPr/>
        </p:nvPicPr>
        <p:blipFill>
          <a:blip r:embed="rId4"/>
          <a:stretch/>
        </p:blipFill>
        <p:spPr>
          <a:xfrm>
            <a:off x="611280" y="393372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1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1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3" name="图片 1" descr=""/>
          <p:cNvPicPr/>
          <p:nvPr/>
        </p:nvPicPr>
        <p:blipFill>
          <a:blip r:embed="rId1"/>
          <a:stretch/>
        </p:blipFill>
        <p:spPr>
          <a:xfrm>
            <a:off x="142920" y="942840"/>
            <a:ext cx="885816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图片 1" descr=""/>
          <p:cNvPicPr/>
          <p:nvPr/>
        </p:nvPicPr>
        <p:blipFill>
          <a:blip r:embed="rId1"/>
          <a:stretch/>
        </p:blipFill>
        <p:spPr>
          <a:xfrm>
            <a:off x="147600" y="1366920"/>
            <a:ext cx="8847000" cy="4124160"/>
          </a:xfrm>
          <a:prstGeom prst="rect">
            <a:avLst/>
          </a:prstGeom>
          <a:ln w="0">
            <a:noFill/>
          </a:ln>
        </p:spPr>
      </p:pic>
      <p:pic>
        <p:nvPicPr>
          <p:cNvPr id="1175" name="Picture 1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76" name="Picture 1" descr=""/>
          <p:cNvPicPr/>
          <p:nvPr/>
        </p:nvPicPr>
        <p:blipFill>
          <a:blip r:embed="rId3"/>
          <a:stretch/>
        </p:blipFill>
        <p:spPr>
          <a:xfrm>
            <a:off x="468360" y="256536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77" name="Picture 1" descr=""/>
          <p:cNvPicPr/>
          <p:nvPr/>
        </p:nvPicPr>
        <p:blipFill>
          <a:blip r:embed="rId4"/>
          <a:stretch/>
        </p:blipFill>
        <p:spPr>
          <a:xfrm>
            <a:off x="539640" y="3500280"/>
            <a:ext cx="432000" cy="3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8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3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8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8" name="图片 1" descr=""/>
          <p:cNvPicPr/>
          <p:nvPr/>
        </p:nvPicPr>
        <p:blipFill>
          <a:blip r:embed="rId1"/>
          <a:stretch/>
        </p:blipFill>
        <p:spPr>
          <a:xfrm>
            <a:off x="490680" y="1781280"/>
            <a:ext cx="8161200" cy="3295440"/>
          </a:xfrm>
          <a:prstGeom prst="rect">
            <a:avLst/>
          </a:prstGeom>
          <a:ln w="0">
            <a:noFill/>
          </a:ln>
        </p:spPr>
      </p:pic>
      <p:pic>
        <p:nvPicPr>
          <p:cNvPr id="1179" name="Picture 1" descr=""/>
          <p:cNvPicPr/>
          <p:nvPr/>
        </p:nvPicPr>
        <p:blipFill>
          <a:blip r:embed="rId2"/>
          <a:stretch/>
        </p:blipFill>
        <p:spPr>
          <a:xfrm>
            <a:off x="826920" y="177336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80" name="Picture 1" descr=""/>
          <p:cNvPicPr/>
          <p:nvPr/>
        </p:nvPicPr>
        <p:blipFill>
          <a:blip r:embed="rId3"/>
          <a:stretch/>
        </p:blipFill>
        <p:spPr>
          <a:xfrm>
            <a:off x="755640" y="3860640"/>
            <a:ext cx="431640" cy="3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5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0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1" name="图片 1" descr=""/>
          <p:cNvPicPr/>
          <p:nvPr/>
        </p:nvPicPr>
        <p:blipFill>
          <a:blip r:embed="rId1"/>
          <a:stretch/>
        </p:blipFill>
        <p:spPr>
          <a:xfrm>
            <a:off x="109440" y="814320"/>
            <a:ext cx="8923320" cy="3486240"/>
          </a:xfrm>
          <a:prstGeom prst="rect">
            <a:avLst/>
          </a:prstGeom>
          <a:ln w="0">
            <a:noFill/>
          </a:ln>
        </p:spPr>
      </p:pic>
      <p:pic>
        <p:nvPicPr>
          <p:cNvPr id="1182" name="图片 2" descr=""/>
          <p:cNvPicPr/>
          <p:nvPr/>
        </p:nvPicPr>
        <p:blipFill>
          <a:blip r:embed="rId2"/>
          <a:stretch/>
        </p:blipFill>
        <p:spPr>
          <a:xfrm>
            <a:off x="147600" y="4229280"/>
            <a:ext cx="8885160" cy="2419200"/>
          </a:xfrm>
          <a:prstGeom prst="rect">
            <a:avLst/>
          </a:prstGeom>
          <a:ln w="0">
            <a:noFill/>
          </a:ln>
        </p:spPr>
      </p:pic>
      <p:pic>
        <p:nvPicPr>
          <p:cNvPr id="1183" name="Picture 1" descr=""/>
          <p:cNvPicPr/>
          <p:nvPr/>
        </p:nvPicPr>
        <p:blipFill>
          <a:blip r:embed="rId3"/>
          <a:stretch/>
        </p:blipFill>
        <p:spPr>
          <a:xfrm>
            <a:off x="971640" y="580536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84" name="Picture 1" descr=""/>
          <p:cNvPicPr/>
          <p:nvPr/>
        </p:nvPicPr>
        <p:blipFill>
          <a:blip r:embed="rId4"/>
          <a:stretch/>
        </p:blipFill>
        <p:spPr>
          <a:xfrm>
            <a:off x="971640" y="623736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7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2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5" name="图片 1" descr=""/>
          <p:cNvPicPr/>
          <p:nvPr/>
        </p:nvPicPr>
        <p:blipFill>
          <a:blip r:embed="rId1"/>
          <a:stretch/>
        </p:blipFill>
        <p:spPr>
          <a:xfrm>
            <a:off x="109440" y="1547640"/>
            <a:ext cx="8923320" cy="3762720"/>
          </a:xfrm>
          <a:prstGeom prst="rect">
            <a:avLst/>
          </a:prstGeom>
          <a:ln w="0">
            <a:noFill/>
          </a:ln>
        </p:spPr>
      </p:pic>
      <p:pic>
        <p:nvPicPr>
          <p:cNvPr id="1186" name="Picture 1" descr=""/>
          <p:cNvPicPr/>
          <p:nvPr/>
        </p:nvPicPr>
        <p:blipFill>
          <a:blip r:embed="rId2"/>
          <a:stretch/>
        </p:blipFill>
        <p:spPr>
          <a:xfrm>
            <a:off x="1332000" y="1944720"/>
            <a:ext cx="1152360" cy="349200"/>
          </a:xfrm>
          <a:prstGeom prst="rect">
            <a:avLst/>
          </a:prstGeom>
          <a:ln w="0">
            <a:noFill/>
          </a:ln>
        </p:spPr>
      </p:pic>
      <p:pic>
        <p:nvPicPr>
          <p:cNvPr id="1187" name="Picture 1" descr=""/>
          <p:cNvPicPr/>
          <p:nvPr/>
        </p:nvPicPr>
        <p:blipFill>
          <a:blip r:embed="rId3"/>
          <a:stretch/>
        </p:blipFill>
        <p:spPr>
          <a:xfrm>
            <a:off x="4211640" y="1944720"/>
            <a:ext cx="1152360" cy="349200"/>
          </a:xfrm>
          <a:prstGeom prst="rect">
            <a:avLst/>
          </a:prstGeom>
          <a:ln w="0">
            <a:noFill/>
          </a:ln>
        </p:spPr>
      </p:pic>
      <p:pic>
        <p:nvPicPr>
          <p:cNvPr id="1188" name="Picture 1" descr=""/>
          <p:cNvPicPr/>
          <p:nvPr/>
        </p:nvPicPr>
        <p:blipFill>
          <a:blip r:embed="rId4"/>
          <a:stretch/>
        </p:blipFill>
        <p:spPr>
          <a:xfrm>
            <a:off x="755640" y="2781360"/>
            <a:ext cx="5545080" cy="349200"/>
          </a:xfrm>
          <a:prstGeom prst="rect">
            <a:avLst/>
          </a:prstGeom>
          <a:ln w="0">
            <a:noFill/>
          </a:ln>
        </p:spPr>
      </p:pic>
      <p:pic>
        <p:nvPicPr>
          <p:cNvPr id="1189" name="Picture 1" descr=""/>
          <p:cNvPicPr/>
          <p:nvPr/>
        </p:nvPicPr>
        <p:blipFill>
          <a:blip r:embed="rId5"/>
          <a:stretch/>
        </p:blipFill>
        <p:spPr>
          <a:xfrm>
            <a:off x="900000" y="4048200"/>
            <a:ext cx="5545080" cy="349200"/>
          </a:xfrm>
          <a:prstGeom prst="rect">
            <a:avLst/>
          </a:prstGeom>
          <a:ln w="0">
            <a:noFill/>
          </a:ln>
        </p:spPr>
      </p:pic>
      <p:pic>
        <p:nvPicPr>
          <p:cNvPr id="1190" name="Picture 1" descr=""/>
          <p:cNvPicPr/>
          <p:nvPr/>
        </p:nvPicPr>
        <p:blipFill>
          <a:blip r:embed="rId6"/>
          <a:stretch/>
        </p:blipFill>
        <p:spPr>
          <a:xfrm>
            <a:off x="755640" y="4869000"/>
            <a:ext cx="554508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9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4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9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4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9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图片 1" descr=""/>
          <p:cNvPicPr/>
          <p:nvPr/>
        </p:nvPicPr>
        <p:blipFill>
          <a:blip r:embed="rId1"/>
          <a:stretch/>
        </p:blipFill>
        <p:spPr>
          <a:xfrm>
            <a:off x="81000" y="689040"/>
            <a:ext cx="2579760" cy="600120"/>
          </a:xfrm>
          <a:prstGeom prst="rect">
            <a:avLst/>
          </a:prstGeom>
          <a:ln w="0">
            <a:noFill/>
          </a:ln>
        </p:spPr>
      </p:pic>
      <p:pic>
        <p:nvPicPr>
          <p:cNvPr id="1109" name="图片 2" descr=""/>
          <p:cNvPicPr/>
          <p:nvPr/>
        </p:nvPicPr>
        <p:blipFill>
          <a:blip r:embed="rId2"/>
          <a:stretch/>
        </p:blipFill>
        <p:spPr>
          <a:xfrm>
            <a:off x="206280" y="1444680"/>
            <a:ext cx="8732880" cy="515304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3"/>
          <a:stretch/>
        </p:blipFill>
        <p:spPr>
          <a:xfrm>
            <a:off x="755640" y="6165720"/>
            <a:ext cx="431640" cy="34956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4"/>
          <a:stretch/>
        </p:blipFill>
        <p:spPr>
          <a:xfrm>
            <a:off x="2556000" y="6165720"/>
            <a:ext cx="431640" cy="34956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5"/>
          <a:stretch/>
        </p:blipFill>
        <p:spPr>
          <a:xfrm>
            <a:off x="4140360" y="6165720"/>
            <a:ext cx="431640" cy="34956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6"/>
          <a:stretch/>
        </p:blipFill>
        <p:spPr>
          <a:xfrm>
            <a:off x="5940360" y="6165720"/>
            <a:ext cx="432000" cy="34956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7"/>
          <a:stretch/>
        </p:blipFill>
        <p:spPr>
          <a:xfrm>
            <a:off x="7667640" y="6165720"/>
            <a:ext cx="431640" cy="3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1" name="图片 1" descr=""/>
          <p:cNvPicPr/>
          <p:nvPr/>
        </p:nvPicPr>
        <p:blipFill>
          <a:blip r:embed="rId1"/>
          <a:stretch/>
        </p:blipFill>
        <p:spPr>
          <a:xfrm>
            <a:off x="890640" y="1585800"/>
            <a:ext cx="7362720" cy="3686400"/>
          </a:xfrm>
          <a:prstGeom prst="rect">
            <a:avLst/>
          </a:prstGeom>
          <a:ln w="0">
            <a:noFill/>
          </a:ln>
        </p:spPr>
      </p:pic>
      <p:pic>
        <p:nvPicPr>
          <p:cNvPr id="1192" name="Picture 1" descr=""/>
          <p:cNvPicPr/>
          <p:nvPr/>
        </p:nvPicPr>
        <p:blipFill>
          <a:blip r:embed="rId2"/>
          <a:stretch/>
        </p:blipFill>
        <p:spPr>
          <a:xfrm>
            <a:off x="3635280" y="2406600"/>
            <a:ext cx="720720" cy="349200"/>
          </a:xfrm>
          <a:prstGeom prst="rect">
            <a:avLst/>
          </a:prstGeom>
          <a:ln w="0">
            <a:noFill/>
          </a:ln>
        </p:spPr>
      </p:pic>
      <p:pic>
        <p:nvPicPr>
          <p:cNvPr id="1193" name="Picture 1" descr=""/>
          <p:cNvPicPr/>
          <p:nvPr/>
        </p:nvPicPr>
        <p:blipFill>
          <a:blip r:embed="rId3"/>
          <a:stretch/>
        </p:blipFill>
        <p:spPr>
          <a:xfrm>
            <a:off x="2268360" y="3213000"/>
            <a:ext cx="721080" cy="349200"/>
          </a:xfrm>
          <a:prstGeom prst="rect">
            <a:avLst/>
          </a:prstGeom>
          <a:ln w="0">
            <a:noFill/>
          </a:ln>
        </p:spPr>
      </p:pic>
      <p:pic>
        <p:nvPicPr>
          <p:cNvPr id="1194" name="Picture 1" descr=""/>
          <p:cNvPicPr/>
          <p:nvPr/>
        </p:nvPicPr>
        <p:blipFill>
          <a:blip r:embed="rId4"/>
          <a:stretch/>
        </p:blipFill>
        <p:spPr>
          <a:xfrm>
            <a:off x="2916360" y="3630600"/>
            <a:ext cx="720720" cy="349200"/>
          </a:xfrm>
          <a:prstGeom prst="rect">
            <a:avLst/>
          </a:prstGeom>
          <a:ln w="0">
            <a:noFill/>
          </a:ln>
        </p:spPr>
      </p:pic>
      <p:pic>
        <p:nvPicPr>
          <p:cNvPr id="1195" name="Picture 1" descr=""/>
          <p:cNvPicPr/>
          <p:nvPr/>
        </p:nvPicPr>
        <p:blipFill>
          <a:blip r:embed="rId5"/>
          <a:stretch/>
        </p:blipFill>
        <p:spPr>
          <a:xfrm>
            <a:off x="2771640" y="4062240"/>
            <a:ext cx="720720" cy="349560"/>
          </a:xfrm>
          <a:prstGeom prst="rect">
            <a:avLst/>
          </a:prstGeom>
          <a:ln w="0">
            <a:noFill/>
          </a:ln>
        </p:spPr>
      </p:pic>
      <p:pic>
        <p:nvPicPr>
          <p:cNvPr id="1196" name="Picture 1" descr=""/>
          <p:cNvPicPr/>
          <p:nvPr/>
        </p:nvPicPr>
        <p:blipFill>
          <a:blip r:embed="rId6"/>
          <a:stretch/>
        </p:blipFill>
        <p:spPr>
          <a:xfrm>
            <a:off x="3564000" y="4883040"/>
            <a:ext cx="12240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6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1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6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1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6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7" name="图片 1" descr=""/>
          <p:cNvPicPr/>
          <p:nvPr/>
        </p:nvPicPr>
        <p:blipFill>
          <a:blip r:embed="rId1"/>
          <a:stretch/>
        </p:blipFill>
        <p:spPr>
          <a:xfrm>
            <a:off x="142920" y="942840"/>
            <a:ext cx="8858160" cy="4972320"/>
          </a:xfrm>
          <a:prstGeom prst="rect">
            <a:avLst/>
          </a:prstGeom>
          <a:ln w="0">
            <a:noFill/>
          </a:ln>
        </p:spPr>
      </p:pic>
      <p:pic>
        <p:nvPicPr>
          <p:cNvPr id="1198" name="Picture 1" descr=""/>
          <p:cNvPicPr/>
          <p:nvPr/>
        </p:nvPicPr>
        <p:blipFill>
          <a:blip r:embed="rId2"/>
          <a:stretch/>
        </p:blipFill>
        <p:spPr>
          <a:xfrm>
            <a:off x="684360" y="1730520"/>
            <a:ext cx="1079280" cy="349200"/>
          </a:xfrm>
          <a:prstGeom prst="rect">
            <a:avLst/>
          </a:prstGeom>
          <a:ln w="0">
            <a:noFill/>
          </a:ln>
        </p:spPr>
      </p:pic>
      <p:pic>
        <p:nvPicPr>
          <p:cNvPr id="1199" name="Picture 1" descr=""/>
          <p:cNvPicPr/>
          <p:nvPr/>
        </p:nvPicPr>
        <p:blipFill>
          <a:blip r:embed="rId3"/>
          <a:stretch/>
        </p:blipFill>
        <p:spPr>
          <a:xfrm>
            <a:off x="3059280" y="1758960"/>
            <a:ext cx="792000" cy="349200"/>
          </a:xfrm>
          <a:prstGeom prst="rect">
            <a:avLst/>
          </a:prstGeom>
          <a:ln w="0">
            <a:noFill/>
          </a:ln>
        </p:spPr>
      </p:pic>
      <p:pic>
        <p:nvPicPr>
          <p:cNvPr id="1200" name="Picture 1" descr=""/>
          <p:cNvPicPr/>
          <p:nvPr/>
        </p:nvPicPr>
        <p:blipFill>
          <a:blip r:embed="rId4"/>
          <a:stretch/>
        </p:blipFill>
        <p:spPr>
          <a:xfrm>
            <a:off x="3851280" y="2565360"/>
            <a:ext cx="792000" cy="349200"/>
          </a:xfrm>
          <a:prstGeom prst="rect">
            <a:avLst/>
          </a:prstGeom>
          <a:ln w="0">
            <a:noFill/>
          </a:ln>
        </p:spPr>
      </p:pic>
      <p:pic>
        <p:nvPicPr>
          <p:cNvPr id="1201" name="Picture 1" descr=""/>
          <p:cNvPicPr/>
          <p:nvPr/>
        </p:nvPicPr>
        <p:blipFill>
          <a:blip r:embed="rId5"/>
          <a:stretch/>
        </p:blipFill>
        <p:spPr>
          <a:xfrm>
            <a:off x="7596360" y="2565360"/>
            <a:ext cx="792000" cy="349200"/>
          </a:xfrm>
          <a:prstGeom prst="rect">
            <a:avLst/>
          </a:prstGeom>
          <a:ln w="0">
            <a:noFill/>
          </a:ln>
        </p:spPr>
      </p:pic>
      <p:pic>
        <p:nvPicPr>
          <p:cNvPr id="1202" name="Picture 1" descr=""/>
          <p:cNvPicPr/>
          <p:nvPr/>
        </p:nvPicPr>
        <p:blipFill>
          <a:blip r:embed="rId6"/>
          <a:stretch/>
        </p:blipFill>
        <p:spPr>
          <a:xfrm>
            <a:off x="2268360" y="3832200"/>
            <a:ext cx="792360" cy="349200"/>
          </a:xfrm>
          <a:prstGeom prst="rect">
            <a:avLst/>
          </a:prstGeom>
          <a:ln w="0">
            <a:noFill/>
          </a:ln>
        </p:spPr>
      </p:pic>
      <p:pic>
        <p:nvPicPr>
          <p:cNvPr id="1203" name="Picture 1" descr=""/>
          <p:cNvPicPr/>
          <p:nvPr/>
        </p:nvPicPr>
        <p:blipFill>
          <a:blip r:embed="rId7"/>
          <a:stretch/>
        </p:blipFill>
        <p:spPr>
          <a:xfrm>
            <a:off x="4991040" y="3843360"/>
            <a:ext cx="1224000" cy="349200"/>
          </a:xfrm>
          <a:prstGeom prst="rect">
            <a:avLst/>
          </a:prstGeom>
          <a:ln w="0">
            <a:noFill/>
          </a:ln>
        </p:spPr>
      </p:pic>
      <p:pic>
        <p:nvPicPr>
          <p:cNvPr id="1204" name="Picture 1" descr=""/>
          <p:cNvPicPr/>
          <p:nvPr/>
        </p:nvPicPr>
        <p:blipFill>
          <a:blip r:embed="rId8"/>
          <a:stretch/>
        </p:blipFill>
        <p:spPr>
          <a:xfrm>
            <a:off x="1042920" y="4638600"/>
            <a:ext cx="792360" cy="349200"/>
          </a:xfrm>
          <a:prstGeom prst="rect">
            <a:avLst/>
          </a:prstGeom>
          <a:ln w="0">
            <a:noFill/>
          </a:ln>
        </p:spPr>
      </p:pic>
      <p:pic>
        <p:nvPicPr>
          <p:cNvPr id="1205" name="Picture 1" descr=""/>
          <p:cNvPicPr/>
          <p:nvPr/>
        </p:nvPicPr>
        <p:blipFill>
          <a:blip r:embed="rId9"/>
          <a:stretch/>
        </p:blipFill>
        <p:spPr>
          <a:xfrm>
            <a:off x="4211640" y="4653000"/>
            <a:ext cx="2305080" cy="349200"/>
          </a:xfrm>
          <a:prstGeom prst="rect">
            <a:avLst/>
          </a:prstGeom>
          <a:ln w="0">
            <a:noFill/>
          </a:ln>
        </p:spPr>
      </p:pic>
      <p:pic>
        <p:nvPicPr>
          <p:cNvPr id="1206" name="Picture 1" descr=""/>
          <p:cNvPicPr/>
          <p:nvPr/>
        </p:nvPicPr>
        <p:blipFill>
          <a:blip r:embed="rId10"/>
          <a:stretch/>
        </p:blipFill>
        <p:spPr>
          <a:xfrm>
            <a:off x="1763640" y="5473800"/>
            <a:ext cx="792360" cy="349200"/>
          </a:xfrm>
          <a:prstGeom prst="rect">
            <a:avLst/>
          </a:prstGeom>
          <a:ln w="0">
            <a:noFill/>
          </a:ln>
        </p:spPr>
      </p:pic>
      <p:pic>
        <p:nvPicPr>
          <p:cNvPr id="1207" name="Picture 1" descr=""/>
          <p:cNvPicPr/>
          <p:nvPr/>
        </p:nvPicPr>
        <p:blipFill>
          <a:blip r:embed="rId11"/>
          <a:stretch/>
        </p:blipFill>
        <p:spPr>
          <a:xfrm>
            <a:off x="3592440" y="5487840"/>
            <a:ext cx="792360" cy="3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3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8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3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8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3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8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3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8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3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8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8" name="图片 1" descr=""/>
          <p:cNvPicPr/>
          <p:nvPr/>
        </p:nvPicPr>
        <p:blipFill>
          <a:blip r:embed="rId1"/>
          <a:stretch/>
        </p:blipFill>
        <p:spPr>
          <a:xfrm>
            <a:off x="390600" y="1143000"/>
            <a:ext cx="8362800" cy="4572000"/>
          </a:xfrm>
          <a:prstGeom prst="rect">
            <a:avLst/>
          </a:prstGeom>
          <a:ln w="0">
            <a:noFill/>
          </a:ln>
        </p:spPr>
      </p:pic>
      <p:pic>
        <p:nvPicPr>
          <p:cNvPr id="1209" name="Picture 1" descr=""/>
          <p:cNvPicPr/>
          <p:nvPr/>
        </p:nvPicPr>
        <p:blipFill>
          <a:blip r:embed="rId2"/>
          <a:stretch/>
        </p:blipFill>
        <p:spPr>
          <a:xfrm>
            <a:off x="1619280" y="32130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1" descr=""/>
          <p:cNvPicPr/>
          <p:nvPr/>
        </p:nvPicPr>
        <p:blipFill>
          <a:blip r:embed="rId3"/>
          <a:stretch/>
        </p:blipFill>
        <p:spPr>
          <a:xfrm>
            <a:off x="1547640" y="4869000"/>
            <a:ext cx="4320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5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0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1" name="图片 1" descr=""/>
          <p:cNvPicPr/>
          <p:nvPr/>
        </p:nvPicPr>
        <p:blipFill>
          <a:blip r:embed="rId1"/>
          <a:stretch/>
        </p:blipFill>
        <p:spPr>
          <a:xfrm>
            <a:off x="1147680" y="484200"/>
            <a:ext cx="6848640" cy="6343560"/>
          </a:xfrm>
          <a:prstGeom prst="rect">
            <a:avLst/>
          </a:prstGeom>
          <a:ln w="0">
            <a:noFill/>
          </a:ln>
        </p:spPr>
      </p:pic>
      <p:pic>
        <p:nvPicPr>
          <p:cNvPr id="1212" name="Picture 1" descr=""/>
          <p:cNvPicPr/>
          <p:nvPr/>
        </p:nvPicPr>
        <p:blipFill>
          <a:blip r:embed="rId2"/>
          <a:stretch/>
        </p:blipFill>
        <p:spPr>
          <a:xfrm>
            <a:off x="2195640" y="8510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213" name="Picture 1" descr=""/>
          <p:cNvPicPr/>
          <p:nvPr/>
        </p:nvPicPr>
        <p:blipFill>
          <a:blip r:embed="rId3"/>
          <a:stretch/>
        </p:blipFill>
        <p:spPr>
          <a:xfrm>
            <a:off x="2268360" y="1671480"/>
            <a:ext cx="432000" cy="349560"/>
          </a:xfrm>
          <a:prstGeom prst="rect">
            <a:avLst/>
          </a:prstGeom>
          <a:ln w="0">
            <a:noFill/>
          </a:ln>
        </p:spPr>
      </p:pic>
      <p:pic>
        <p:nvPicPr>
          <p:cNvPr id="1214" name="Picture 1" descr=""/>
          <p:cNvPicPr/>
          <p:nvPr/>
        </p:nvPicPr>
        <p:blipFill>
          <a:blip r:embed="rId4"/>
          <a:stretch/>
        </p:blipFill>
        <p:spPr>
          <a:xfrm>
            <a:off x="2268360" y="2924280"/>
            <a:ext cx="4320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2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7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图片 1" descr=""/>
          <p:cNvPicPr/>
          <p:nvPr/>
        </p:nvPicPr>
        <p:blipFill>
          <a:blip r:embed="rId1"/>
          <a:stretch/>
        </p:blipFill>
        <p:spPr>
          <a:xfrm>
            <a:off x="119160" y="204840"/>
            <a:ext cx="8904240" cy="6448320"/>
          </a:xfrm>
          <a:prstGeom prst="rect">
            <a:avLst/>
          </a:prstGeom>
          <a:ln w="0">
            <a:noFill/>
          </a:ln>
        </p:spPr>
      </p:pic>
      <p:pic>
        <p:nvPicPr>
          <p:cNvPr id="1216" name="Picture 1" descr=""/>
          <p:cNvPicPr/>
          <p:nvPr/>
        </p:nvPicPr>
        <p:blipFill>
          <a:blip r:embed="rId2"/>
          <a:stretch/>
        </p:blipFill>
        <p:spPr>
          <a:xfrm>
            <a:off x="684360" y="5416560"/>
            <a:ext cx="1079280" cy="349200"/>
          </a:xfrm>
          <a:prstGeom prst="rect">
            <a:avLst/>
          </a:prstGeom>
          <a:ln w="0">
            <a:noFill/>
          </a:ln>
        </p:spPr>
      </p:pic>
      <p:pic>
        <p:nvPicPr>
          <p:cNvPr id="1217" name="Picture 1" descr=""/>
          <p:cNvPicPr/>
          <p:nvPr/>
        </p:nvPicPr>
        <p:blipFill>
          <a:blip r:embed="rId3"/>
          <a:stretch/>
        </p:blipFill>
        <p:spPr>
          <a:xfrm>
            <a:off x="2987640" y="5416560"/>
            <a:ext cx="1079640" cy="349200"/>
          </a:xfrm>
          <a:prstGeom prst="rect">
            <a:avLst/>
          </a:prstGeom>
          <a:ln w="0">
            <a:noFill/>
          </a:ln>
        </p:spPr>
      </p:pic>
      <p:pic>
        <p:nvPicPr>
          <p:cNvPr id="1218" name="Picture 1" descr=""/>
          <p:cNvPicPr/>
          <p:nvPr/>
        </p:nvPicPr>
        <p:blipFill>
          <a:blip r:embed="rId4"/>
          <a:stretch/>
        </p:blipFill>
        <p:spPr>
          <a:xfrm>
            <a:off x="5465880" y="5416560"/>
            <a:ext cx="1079280" cy="349200"/>
          </a:xfrm>
          <a:prstGeom prst="rect">
            <a:avLst/>
          </a:prstGeom>
          <a:ln w="0">
            <a:noFill/>
          </a:ln>
        </p:spPr>
      </p:pic>
      <p:pic>
        <p:nvPicPr>
          <p:cNvPr id="1219" name="Picture 1" descr=""/>
          <p:cNvPicPr/>
          <p:nvPr/>
        </p:nvPicPr>
        <p:blipFill>
          <a:blip r:embed="rId5"/>
          <a:stretch/>
        </p:blipFill>
        <p:spPr>
          <a:xfrm>
            <a:off x="7769160" y="5416560"/>
            <a:ext cx="1079640" cy="349200"/>
          </a:xfrm>
          <a:prstGeom prst="rect">
            <a:avLst/>
          </a:prstGeom>
          <a:ln w="0">
            <a:noFill/>
          </a:ln>
        </p:spPr>
      </p:pic>
      <p:pic>
        <p:nvPicPr>
          <p:cNvPr id="1220" name="Picture 1" descr=""/>
          <p:cNvPicPr/>
          <p:nvPr/>
        </p:nvPicPr>
        <p:blipFill>
          <a:blip r:embed="rId6"/>
          <a:stretch/>
        </p:blipFill>
        <p:spPr>
          <a:xfrm>
            <a:off x="641520" y="5819760"/>
            <a:ext cx="1079280" cy="349200"/>
          </a:xfrm>
          <a:prstGeom prst="rect">
            <a:avLst/>
          </a:prstGeom>
          <a:ln w="0">
            <a:noFill/>
          </a:ln>
        </p:spPr>
      </p:pic>
      <p:pic>
        <p:nvPicPr>
          <p:cNvPr id="1221" name="Picture 1" descr=""/>
          <p:cNvPicPr/>
          <p:nvPr/>
        </p:nvPicPr>
        <p:blipFill>
          <a:blip r:embed="rId7"/>
          <a:stretch/>
        </p:blipFill>
        <p:spPr>
          <a:xfrm>
            <a:off x="2944800" y="5819760"/>
            <a:ext cx="1079640" cy="349200"/>
          </a:xfrm>
          <a:prstGeom prst="rect">
            <a:avLst/>
          </a:prstGeom>
          <a:ln w="0">
            <a:noFill/>
          </a:ln>
        </p:spPr>
      </p:pic>
      <p:pic>
        <p:nvPicPr>
          <p:cNvPr id="1222" name="Picture 1" descr=""/>
          <p:cNvPicPr/>
          <p:nvPr/>
        </p:nvPicPr>
        <p:blipFill>
          <a:blip r:embed="rId8"/>
          <a:stretch/>
        </p:blipFill>
        <p:spPr>
          <a:xfrm>
            <a:off x="5423040" y="5819760"/>
            <a:ext cx="1079280" cy="349200"/>
          </a:xfrm>
          <a:prstGeom prst="rect">
            <a:avLst/>
          </a:prstGeom>
          <a:ln w="0">
            <a:noFill/>
          </a:ln>
        </p:spPr>
      </p:pic>
      <p:pic>
        <p:nvPicPr>
          <p:cNvPr id="1223" name="Picture 1" descr=""/>
          <p:cNvPicPr/>
          <p:nvPr/>
        </p:nvPicPr>
        <p:blipFill>
          <a:blip r:embed="rId9"/>
          <a:stretch/>
        </p:blipFill>
        <p:spPr>
          <a:xfrm>
            <a:off x="7726320" y="5819760"/>
            <a:ext cx="1079640" cy="349200"/>
          </a:xfrm>
          <a:prstGeom prst="rect">
            <a:avLst/>
          </a:prstGeom>
          <a:ln w="0">
            <a:noFill/>
          </a:ln>
        </p:spPr>
      </p:pic>
      <p:pic>
        <p:nvPicPr>
          <p:cNvPr id="1224" name="Picture 1" descr=""/>
          <p:cNvPicPr/>
          <p:nvPr/>
        </p:nvPicPr>
        <p:blipFill>
          <a:blip r:embed="rId10"/>
          <a:stretch/>
        </p:blipFill>
        <p:spPr>
          <a:xfrm>
            <a:off x="611280" y="6208560"/>
            <a:ext cx="1079280" cy="349560"/>
          </a:xfrm>
          <a:prstGeom prst="rect">
            <a:avLst/>
          </a:prstGeom>
          <a:ln w="0">
            <a:noFill/>
          </a:ln>
        </p:spPr>
      </p:pic>
      <p:pic>
        <p:nvPicPr>
          <p:cNvPr id="1225" name="Picture 1" descr=""/>
          <p:cNvPicPr/>
          <p:nvPr/>
        </p:nvPicPr>
        <p:blipFill>
          <a:blip r:embed="rId11"/>
          <a:stretch/>
        </p:blipFill>
        <p:spPr>
          <a:xfrm>
            <a:off x="2914560" y="6208560"/>
            <a:ext cx="1513080" cy="3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4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9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4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9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4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9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4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9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4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9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6" name="图片 1" descr=""/>
          <p:cNvPicPr/>
          <p:nvPr/>
        </p:nvPicPr>
        <p:blipFill>
          <a:blip r:embed="rId1"/>
          <a:stretch/>
        </p:blipFill>
        <p:spPr>
          <a:xfrm>
            <a:off x="76320" y="814320"/>
            <a:ext cx="8866080" cy="5886360"/>
          </a:xfrm>
          <a:prstGeom prst="rect">
            <a:avLst/>
          </a:prstGeom>
          <a:ln w="0">
            <a:noFill/>
          </a:ln>
        </p:spPr>
      </p:pic>
      <p:pic>
        <p:nvPicPr>
          <p:cNvPr id="1227" name="Picture 1" descr=""/>
          <p:cNvPicPr/>
          <p:nvPr/>
        </p:nvPicPr>
        <p:blipFill>
          <a:blip r:embed="rId2"/>
          <a:stretch/>
        </p:blipFill>
        <p:spPr>
          <a:xfrm>
            <a:off x="3419640" y="5388120"/>
            <a:ext cx="5473440" cy="349200"/>
          </a:xfrm>
          <a:prstGeom prst="rect">
            <a:avLst/>
          </a:prstGeom>
          <a:ln w="0">
            <a:noFill/>
          </a:ln>
        </p:spPr>
      </p:pic>
      <p:pic>
        <p:nvPicPr>
          <p:cNvPr id="1228" name="Picture 1" descr=""/>
          <p:cNvPicPr/>
          <p:nvPr/>
        </p:nvPicPr>
        <p:blipFill>
          <a:blip r:embed="rId3"/>
          <a:stretch/>
        </p:blipFill>
        <p:spPr>
          <a:xfrm>
            <a:off x="42840" y="5805360"/>
            <a:ext cx="8893080" cy="349200"/>
          </a:xfrm>
          <a:prstGeom prst="rect">
            <a:avLst/>
          </a:prstGeom>
          <a:ln w="0">
            <a:noFill/>
          </a:ln>
        </p:spPr>
      </p:pic>
      <p:pic>
        <p:nvPicPr>
          <p:cNvPr id="1229" name="Picture 1" descr=""/>
          <p:cNvPicPr/>
          <p:nvPr/>
        </p:nvPicPr>
        <p:blipFill>
          <a:blip r:embed="rId4"/>
          <a:stretch/>
        </p:blipFill>
        <p:spPr>
          <a:xfrm>
            <a:off x="42840" y="6194520"/>
            <a:ext cx="889308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6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1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6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图片 1" descr=""/>
          <p:cNvPicPr/>
          <p:nvPr/>
        </p:nvPicPr>
        <p:blipFill>
          <a:blip r:embed="rId1"/>
          <a:stretch/>
        </p:blipFill>
        <p:spPr>
          <a:xfrm>
            <a:off x="504720" y="1533600"/>
            <a:ext cx="8134560" cy="379080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2"/>
          <a:stretch/>
        </p:blipFill>
        <p:spPr>
          <a:xfrm>
            <a:off x="900000" y="197496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3"/>
          <a:stretch/>
        </p:blipFill>
        <p:spPr>
          <a:xfrm>
            <a:off x="900000" y="321300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4"/>
          <a:stretch/>
        </p:blipFill>
        <p:spPr>
          <a:xfrm>
            <a:off x="900000" y="364500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5"/>
          <a:stretch/>
        </p:blipFill>
        <p:spPr>
          <a:xfrm>
            <a:off x="900000" y="450864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6"/>
          <a:stretch/>
        </p:blipFill>
        <p:spPr>
          <a:xfrm>
            <a:off x="900000" y="4941720"/>
            <a:ext cx="432000" cy="3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图片 1" descr=""/>
          <p:cNvPicPr/>
          <p:nvPr/>
        </p:nvPicPr>
        <p:blipFill>
          <a:blip r:embed="rId1"/>
          <a:stretch/>
        </p:blipFill>
        <p:spPr>
          <a:xfrm>
            <a:off x="243000" y="1076400"/>
            <a:ext cx="8656560" cy="470520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3"/>
          <a:stretch/>
        </p:blipFill>
        <p:spPr>
          <a:xfrm>
            <a:off x="684360" y="2349360"/>
            <a:ext cx="431640" cy="34956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4"/>
          <a:stretch/>
        </p:blipFill>
        <p:spPr>
          <a:xfrm>
            <a:off x="684360" y="32558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5"/>
          <a:stretch/>
        </p:blipFill>
        <p:spPr>
          <a:xfrm>
            <a:off x="611280" y="414972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6"/>
          <a:stretch/>
        </p:blipFill>
        <p:spPr>
          <a:xfrm>
            <a:off x="611280" y="501336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图片 1" descr=""/>
          <p:cNvPicPr/>
          <p:nvPr/>
        </p:nvPicPr>
        <p:blipFill>
          <a:blip r:embed="rId1"/>
          <a:stretch/>
        </p:blipFill>
        <p:spPr>
          <a:xfrm>
            <a:off x="142920" y="1857240"/>
            <a:ext cx="6715080" cy="1352520"/>
          </a:xfrm>
          <a:prstGeom prst="rect">
            <a:avLst/>
          </a:prstGeom>
          <a:ln w="0">
            <a:noFill/>
          </a:ln>
        </p:spPr>
      </p:pic>
      <p:pic>
        <p:nvPicPr>
          <p:cNvPr id="1128" name="图片 2" descr=""/>
          <p:cNvPicPr/>
          <p:nvPr/>
        </p:nvPicPr>
        <p:blipFill>
          <a:blip r:embed="rId2"/>
          <a:stretch/>
        </p:blipFill>
        <p:spPr>
          <a:xfrm>
            <a:off x="190440" y="3209760"/>
            <a:ext cx="8856720" cy="169560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3"/>
          <a:stretch/>
        </p:blipFill>
        <p:spPr>
          <a:xfrm>
            <a:off x="4572000" y="2305080"/>
            <a:ext cx="1152360" cy="34920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4"/>
          <a:stretch/>
        </p:blipFill>
        <p:spPr>
          <a:xfrm>
            <a:off x="2987640" y="2736720"/>
            <a:ext cx="1152720" cy="34956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5"/>
          <a:stretch/>
        </p:blipFill>
        <p:spPr>
          <a:xfrm>
            <a:off x="6732720" y="3213000"/>
            <a:ext cx="1152360" cy="34920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6"/>
          <a:stretch/>
        </p:blipFill>
        <p:spPr>
          <a:xfrm>
            <a:off x="1360440" y="4062240"/>
            <a:ext cx="936720" cy="34956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7"/>
          <a:stretch/>
        </p:blipFill>
        <p:spPr>
          <a:xfrm>
            <a:off x="5148360" y="4494240"/>
            <a:ext cx="93636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图片 1" descr=""/>
          <p:cNvPicPr/>
          <p:nvPr/>
        </p:nvPicPr>
        <p:blipFill>
          <a:blip r:embed="rId1"/>
          <a:stretch/>
        </p:blipFill>
        <p:spPr>
          <a:xfrm>
            <a:off x="237960" y="957240"/>
            <a:ext cx="8668080" cy="49435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2"/>
          <a:stretch/>
        </p:blipFill>
        <p:spPr>
          <a:xfrm>
            <a:off x="554040" y="20462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3"/>
          <a:stretch/>
        </p:blipFill>
        <p:spPr>
          <a:xfrm>
            <a:off x="539640" y="328464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4"/>
          <a:stretch/>
        </p:blipFill>
        <p:spPr>
          <a:xfrm>
            <a:off x="539640" y="414972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" descr=""/>
          <p:cNvPicPr/>
          <p:nvPr/>
        </p:nvPicPr>
        <p:blipFill>
          <a:blip r:embed="rId5"/>
          <a:stretch/>
        </p:blipFill>
        <p:spPr>
          <a:xfrm>
            <a:off x="539640" y="5013360"/>
            <a:ext cx="4320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图片 1" descr=""/>
          <p:cNvPicPr/>
          <p:nvPr/>
        </p:nvPicPr>
        <p:blipFill>
          <a:blip r:embed="rId1"/>
          <a:stretch/>
        </p:blipFill>
        <p:spPr>
          <a:xfrm>
            <a:off x="38160" y="876240"/>
            <a:ext cx="9067680" cy="510552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" descr=""/>
          <p:cNvPicPr/>
          <p:nvPr/>
        </p:nvPicPr>
        <p:blipFill>
          <a:blip r:embed="rId2"/>
          <a:stretch/>
        </p:blipFill>
        <p:spPr>
          <a:xfrm>
            <a:off x="324000" y="8366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" descr=""/>
          <p:cNvPicPr/>
          <p:nvPr/>
        </p:nvPicPr>
        <p:blipFill>
          <a:blip r:embed="rId3"/>
          <a:stretch/>
        </p:blipFill>
        <p:spPr>
          <a:xfrm>
            <a:off x="324000" y="170028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" descr=""/>
          <p:cNvPicPr/>
          <p:nvPr/>
        </p:nvPicPr>
        <p:blipFill>
          <a:blip r:embed="rId4"/>
          <a:stretch/>
        </p:blipFill>
        <p:spPr>
          <a:xfrm>
            <a:off x="395280" y="256536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" descr=""/>
          <p:cNvPicPr/>
          <p:nvPr/>
        </p:nvPicPr>
        <p:blipFill>
          <a:blip r:embed="rId5"/>
          <a:stretch/>
        </p:blipFill>
        <p:spPr>
          <a:xfrm>
            <a:off x="395280" y="34290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" descr=""/>
          <p:cNvPicPr/>
          <p:nvPr/>
        </p:nvPicPr>
        <p:blipFill>
          <a:blip r:embed="rId6"/>
          <a:stretch/>
        </p:blipFill>
        <p:spPr>
          <a:xfrm>
            <a:off x="395280" y="515772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5" name="图片 1" descr=""/>
          <p:cNvPicPr/>
          <p:nvPr/>
        </p:nvPicPr>
        <p:blipFill>
          <a:blip r:embed="rId1"/>
          <a:stretch/>
        </p:blipFill>
        <p:spPr>
          <a:xfrm>
            <a:off x="204840" y="746280"/>
            <a:ext cx="8827920" cy="596232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" descr=""/>
          <p:cNvPicPr/>
          <p:nvPr/>
        </p:nvPicPr>
        <p:blipFill>
          <a:blip r:embed="rId2"/>
          <a:stretch/>
        </p:blipFill>
        <p:spPr>
          <a:xfrm>
            <a:off x="468360" y="765000"/>
            <a:ext cx="431640" cy="34956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" descr=""/>
          <p:cNvPicPr/>
          <p:nvPr/>
        </p:nvPicPr>
        <p:blipFill>
          <a:blip r:embed="rId3"/>
          <a:stretch/>
        </p:blipFill>
        <p:spPr>
          <a:xfrm>
            <a:off x="395280" y="20606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" descr=""/>
          <p:cNvPicPr/>
          <p:nvPr/>
        </p:nvPicPr>
        <p:blipFill>
          <a:blip r:embed="rId4"/>
          <a:stretch/>
        </p:blipFill>
        <p:spPr>
          <a:xfrm>
            <a:off x="395280" y="335772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" descr=""/>
          <p:cNvPicPr/>
          <p:nvPr/>
        </p:nvPicPr>
        <p:blipFill>
          <a:blip r:embed="rId5"/>
          <a:stretch/>
        </p:blipFill>
        <p:spPr>
          <a:xfrm>
            <a:off x="395280" y="4221000"/>
            <a:ext cx="431640" cy="34956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1" descr=""/>
          <p:cNvPicPr/>
          <p:nvPr/>
        </p:nvPicPr>
        <p:blipFill>
          <a:blip r:embed="rId6"/>
          <a:stretch/>
        </p:blipFill>
        <p:spPr>
          <a:xfrm>
            <a:off x="468360" y="551664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1" name="图片 1" descr=""/>
          <p:cNvPicPr/>
          <p:nvPr/>
        </p:nvPicPr>
        <p:blipFill>
          <a:blip r:embed="rId1"/>
          <a:stretch/>
        </p:blipFill>
        <p:spPr>
          <a:xfrm>
            <a:off x="700200" y="2543040"/>
            <a:ext cx="7742160" cy="177192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1" descr=""/>
          <p:cNvPicPr/>
          <p:nvPr/>
        </p:nvPicPr>
        <p:blipFill>
          <a:blip r:embed="rId2"/>
          <a:stretch/>
        </p:blipFill>
        <p:spPr>
          <a:xfrm>
            <a:off x="971640" y="256536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51:04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